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142-C3BE-427B-A79B-672A9FC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C1E-9023-4FEA-B4CE-1C5BF444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535-1512-4B6B-8304-8A85488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DE6-F881-4D57-95BA-FB329698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CB84-05F7-4E81-A3EF-09997081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C467-82B7-430F-9F3F-DC5FAB5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3F3C-AD8B-44FE-882F-C820514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248-9B51-4B9C-BAAC-A40F44B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3637-9BC4-4C87-9999-67C1DD3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11BC-FCD9-4580-A97F-E6781DC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702-2FD2-406F-A516-A668A67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A76-B251-4010-83D9-E769833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633-A11D-483E-819F-C6B27F8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66FB-92A5-4B0B-8400-C05D9C0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8B2-3694-4A77-800B-A4CE3F9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BF82-9932-4B6E-94EA-8E5A8390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C8F-33CA-4E02-B5AE-394BC795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C1C-0199-4422-A4F5-09C2A24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0F9-3929-42B3-8BF2-2A2F869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0D5-A328-4533-A709-4411036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42A-C161-4012-B94A-15FB6A4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D39-93A4-4E2F-A0FB-241BCF0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7D2-C501-4C59-918F-7EFEC90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6B1-5726-4B92-AE3C-48B4F93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6C39-2AF0-40D5-9C98-BB27BEADDE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D4A-257B-4AB8-B121-8922737BF6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-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2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Simplify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4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+ 3 when x =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15 + 9 ÷ 3 – 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 ● 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72000" y="4267080"/>
                <a:ext cx="41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71800" y="5105520"/>
                <a:ext cx="157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-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5 + 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when x =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8 ÷ 2 – 4 + 1 ●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3 ●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÷ (12 – 8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71800" y="4419720"/>
                <a:ext cx="23623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der of Oper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, Section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tudent will be able to correctly evaluate three out of four expressions using the correct order of oper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der of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29936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v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tr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3733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4290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5880" y="34606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gether,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29000" y="5181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6483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3120" y="49528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gether,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057400"/>
            <a:ext cx="754380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 when x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for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1752480"/>
            <a:ext cx="2819520" cy="457200"/>
          </a:xfrm>
          <a:custGeom>
            <a:avLst/>
            <a:gdLst/>
            <a:ahLst/>
            <a:rect l="l" t="t" r="r" b="b"/>
            <a:pathLst>
              <a:path w="1680" h="200">
                <a:moveTo>
                  <a:pt x="1680" y="152"/>
                </a:moveTo>
                <a:cubicBezTo>
                  <a:pt x="1340" y="76"/>
                  <a:pt x="1000" y="0"/>
                  <a:pt x="720" y="8"/>
                </a:cubicBezTo>
                <a:cubicBezTo>
                  <a:pt x="440" y="16"/>
                  <a:pt x="220" y="108"/>
                  <a:pt x="0" y="2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029200"/>
            <a:ext cx="12956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276720"/>
            <a:ext cx="4572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8098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057400"/>
            <a:ext cx="75438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9 ÷ 3 – 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3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tra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886200"/>
            <a:ext cx="12956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057400"/>
            <a:ext cx="11430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6668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48320" y="3200400"/>
                <a:ext cx="43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4120" y="1752480"/>
                <a:ext cx="431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85800" y="2057400"/>
            <a:ext cx="75438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● 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on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● 9 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ultip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8 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vi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8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724280"/>
            <a:ext cx="12952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057400"/>
            <a:ext cx="6094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74320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81480" y="2590920"/>
                <a:ext cx="43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572000" y="3200400"/>
            <a:ext cx="60948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-Assess #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2514600"/>
                <a:ext cx="1067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3809880"/>
                <a:ext cx="838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05320" y="1828800"/>
                <a:ext cx="1218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09480" y="1905120"/>
            <a:ext cx="4267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5410080"/>
            <a:ext cx="6094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752480"/>
            <a:ext cx="6098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05320"/>
            <a:ext cx="76212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81280" y="3200400"/>
                <a:ext cx="1067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09880" y="457200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86200" y="5410080"/>
                <a:ext cx="270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657600" y="4267080"/>
            <a:ext cx="7621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84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- 5 when x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24 - 6 ● 3 + 4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 (3 + 5)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– 12 ÷ 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alu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71800" y="4495680"/>
                <a:ext cx="19051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3:01:15Z</dcterms:created>
  <dc:creator>mdavenport</dc:creator>
  <dc:description/>
  <dc:language>en-US</dc:language>
  <cp:lastModifiedBy>Connie Dolezal</cp:lastModifiedBy>
  <dcterms:modified xsi:type="dcterms:W3CDTF">2008-08-16T22:47:14Z</dcterms:modified>
  <cp:revision>69</cp:revision>
  <dc:subject/>
  <dc:title>Solving Addition/Subtraction Equations</dc:title>
</cp:coreProperties>
</file>